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8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E723AD-880E-4ECA-AC1A-7FD547D2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iew with Dell’s Azadeh En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inc.blogs.nytime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201A-D2B3-49E2-A7EC-3CB8181F0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2E2C-AEAA-47C8-A6BF-E09EAAD10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4DA2-5662-467C-BE96-BCC1604DB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63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57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569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63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57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7DCD-92D4-4F18-A88C-46FC9B50C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A2247-7478-45E9-9698-A32F50E6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71C50-ACEC-44B6-8670-4282690A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991BA-A2F9-483A-86BB-90FADCBA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0A622-8A81-4A32-AAA5-454070E3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EBE17-6BCB-432C-8AD4-EB5D9BC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4680" y="7560"/>
            <a:ext cx="76294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923C-BBE1-4D11-8376-39F9119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64DDE-6937-4CCF-92D6-AE9241B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9C7F-B835-44C3-9E5D-767E40940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9A32A-B156-4245-BBBB-C12792B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7B821-0D1A-4CF5-9131-54E0CB4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A3BF4-8E48-44EA-95CE-B854850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0BBE-48DB-40CD-A7C3-10E59368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363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5760" y="119988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569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363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5760" y="3906360"/>
            <a:ext cx="2456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B229-32A7-4F89-AB18-6F6B6E80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9621-6BFD-4BF5-BC70-F284B267A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E7C2-1B1F-442B-B0E5-378C41742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D2BB-6BF8-4707-9DA6-8756F2A7C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4680" y="7560"/>
            <a:ext cx="76294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9993-3587-40BF-BF70-62AF22875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63FC-7385-43A4-B6BC-6E54B976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6560" y="390636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582-B11C-4471-BB94-E485E3806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6560" y="1199880"/>
            <a:ext cx="372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56960" y="3906360"/>
            <a:ext cx="7629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8A0A-FFD6-4FDF-8F7E-5067A0AE0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44120" y="6381360"/>
            <a:ext cx="723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1D2-4896-48F7-92B6-2D02D1383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3040" y="-9360"/>
            <a:ext cx="8399520" cy="981000"/>
          </a:xfrm>
          <a:prstGeom prst="rect">
            <a:avLst/>
          </a:prstGeom>
          <a:solidFill>
            <a:srgbClr val="cc33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2"/>
          <p:cNvSpPr/>
          <p:nvPr/>
        </p:nvSpPr>
        <p:spPr>
          <a:xfrm rot="16200000">
            <a:off x="-549360" y="8445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ustainab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14"/>
          <p:cNvSpPr/>
          <p:nvPr/>
        </p:nvSpPr>
        <p:spPr>
          <a:xfrm flipH="1">
            <a:off x="743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2" descr=""/>
          <p:cNvPicPr/>
          <p:nvPr/>
        </p:nvPicPr>
        <p:blipFill>
          <a:blip r:embed="rId2"/>
          <a:stretch/>
        </p:blipFill>
        <p:spPr>
          <a:xfrm>
            <a:off x="5033880" y="2127240"/>
            <a:ext cx="825480" cy="1235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"/>
          <p:cNvPicPr/>
          <p:nvPr/>
        </p:nvPicPr>
        <p:blipFill>
          <a:blip r:embed="rId3"/>
          <a:stretch/>
        </p:blipFill>
        <p:spPr>
          <a:xfrm>
            <a:off x="3741840" y="2127240"/>
            <a:ext cx="1292040" cy="1235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5859360" y="0"/>
            <a:ext cx="3284640" cy="3362400"/>
          </a:xfrm>
          <a:prstGeom prst="rect">
            <a:avLst/>
          </a:prstGeom>
          <a:solidFill>
            <a:srgbClr val="b0a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9"/>
          <p:cNvSpPr/>
          <p:nvPr/>
        </p:nvSpPr>
        <p:spPr>
          <a:xfrm>
            <a:off x="5962680" y="26719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 Energy in the Office with I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7" descr=""/>
          <p:cNvPicPr/>
          <p:nvPr/>
        </p:nvPicPr>
        <p:blipFill>
          <a:blip r:embed="rId4"/>
          <a:stretch/>
        </p:blipFill>
        <p:spPr>
          <a:xfrm>
            <a:off x="3741840" y="0"/>
            <a:ext cx="2117520" cy="212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sustIT_banner"/>
          <p:cNvPicPr/>
          <p:nvPr/>
        </p:nvPicPr>
        <p:blipFill>
          <a:blip r:embed="rId5"/>
          <a:stretch/>
        </p:blipFill>
        <p:spPr>
          <a:xfrm>
            <a:off x="19080" y="5425920"/>
            <a:ext cx="9144000" cy="1470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FB55-37D8-4A7C-9CD5-97E31740B1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E358-FE6B-4A37-A695-9A26A562F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46A6-3371-44B9-9D10-B0B01D711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4" descr=""/>
          <p:cNvPicPr/>
          <p:nvPr/>
        </p:nvPicPr>
        <p:blipFill>
          <a:blip r:embed="rId1"/>
          <a:stretch/>
        </p:blipFill>
        <p:spPr>
          <a:xfrm>
            <a:off x="5859360" y="4680"/>
            <a:ext cx="3284640" cy="335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2" descr=""/>
          <p:cNvPicPr/>
          <p:nvPr/>
        </p:nvPicPr>
        <p:blipFill>
          <a:blip r:embed="rId2"/>
          <a:stretch/>
        </p:blipFill>
        <p:spPr>
          <a:xfrm>
            <a:off x="5033880" y="2127240"/>
            <a:ext cx="825480" cy="1235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3" descr=""/>
          <p:cNvPicPr/>
          <p:nvPr/>
        </p:nvPicPr>
        <p:blipFill>
          <a:blip r:embed="rId3"/>
          <a:stretch/>
        </p:blipFill>
        <p:spPr>
          <a:xfrm>
            <a:off x="3741840" y="2127240"/>
            <a:ext cx="1292040" cy="12351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8"/>
          <p:cNvSpPr/>
          <p:nvPr/>
        </p:nvSpPr>
        <p:spPr>
          <a:xfrm>
            <a:off x="5859360" y="0"/>
            <a:ext cx="3284640" cy="3362400"/>
          </a:xfrm>
          <a:prstGeom prst="rect">
            <a:avLst/>
          </a:prstGeom>
          <a:solidFill>
            <a:srgbClr val="b0ac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9"/>
          <p:cNvSpPr/>
          <p:nvPr/>
        </p:nvSpPr>
        <p:spPr>
          <a:xfrm>
            <a:off x="5962680" y="26719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ving Energy in your Office with IT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7" descr=""/>
          <p:cNvPicPr/>
          <p:nvPr/>
        </p:nvPicPr>
        <p:blipFill>
          <a:blip r:embed="rId4"/>
          <a:stretch/>
        </p:blipFill>
        <p:spPr>
          <a:xfrm>
            <a:off x="3741840" y="0"/>
            <a:ext cx="2117520" cy="21272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7"/>
          <p:cNvSpPr/>
          <p:nvPr/>
        </p:nvSpPr>
        <p:spPr>
          <a:xfrm>
            <a:off x="3797280" y="3822840"/>
            <a:ext cx="49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able I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ility and Energy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4" descr="sustIT_banner"/>
          <p:cNvPicPr/>
          <p:nvPr/>
        </p:nvPicPr>
        <p:blipFill>
          <a:blip r:embed="rId5"/>
          <a:stretch/>
        </p:blipFill>
        <p:spPr>
          <a:xfrm>
            <a:off x="0" y="5423040"/>
            <a:ext cx="91630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5A2-70E2-4F5B-95A3-19BFC9B0C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OPTIMIZE PERFORM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’s running slow, it’s wasting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o your own computer cleanup: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Windows: Start/All Programs/Accessories/System Too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k Cleanup  -- Free up disk spac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k Defragmenter – consolidates fragmented file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databases of unnecessary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e more data they contain, the more hardware is used in storing th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A126-2861-4D38-ABF8-30B055FB8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MON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56960" y="1200240"/>
            <a:ext cx="762948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nt out the CRTs and get rid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nvert to flat panel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RT uses 2-3x more energy the flat pane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RT has lead &amp;  mercury – so dispose of properl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LED flat-panel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ight Emitting Diode (LED) monitors are mercury free and recyclabl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LCD, while better then CRT’s, contains mercury (CFL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the Monitor using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Disable your screen sa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the ‘Off’ button when you walk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s zero energ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9" name="Picture 4" descr="MCj04241940000[1]"/>
          <p:cNvPicPr/>
          <p:nvPr/>
        </p:nvPicPr>
        <p:blipFill>
          <a:blip r:embed="rId1"/>
          <a:stretch/>
        </p:blipFill>
        <p:spPr>
          <a:xfrm>
            <a:off x="7213680" y="4664160"/>
            <a:ext cx="1473120" cy="195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MCj04134820000[1]"/>
          <p:cNvPicPr/>
          <p:nvPr/>
        </p:nvPicPr>
        <p:blipFill>
          <a:blip r:embed="rId2"/>
          <a:stretch/>
        </p:blipFill>
        <p:spPr>
          <a:xfrm>
            <a:off x="7015320" y="247680"/>
            <a:ext cx="1960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E5F8-6E04-4F0D-A2C5-E43590537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PRI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56960" y="971280"/>
            <a:ext cx="762948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vious Stuf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t your print drivers to default to double-sided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Do the same for your copiers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rint in DRAFT mode to save ton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rint to PDF and store electronicall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Lots of free PDF making software is available!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e Print Preview to avoid printing erro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nly print ‘page 1’ of emails ... Avoid the chai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queeze the margin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Margins reduced from 1.25 to .75 in, nearly 5% paper savings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e 100% Recycled Pap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e and select pages before printing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verage employee prints 6 wasted pages per day!!!!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 printer/copier sustainability with network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ost vendors have a multi-vendor tool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Xerox’s Sustainability Calculator, HP Webjet Admin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24C-1701-4954-A25D-AEAEE9056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POWER SUPP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wer supplies are not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lder and many after-market ones are &lt;80% efficien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pgrade your power supply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80 Plus Certificatio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0% effici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ternational Energy Efficiency stamp “IV”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5% efficienc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ergy Star “V”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&gt;87% efficienc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Always check power supply efficiency when buying any electronic equipment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647720" y="5062680"/>
            <a:ext cx="2327400" cy="168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54" t="17521" r="85043" b="66631"/>
          <a:stretch/>
        </p:blipFill>
        <p:spPr>
          <a:xfrm>
            <a:off x="6845400" y="1981080"/>
            <a:ext cx="1244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D39-740F-43C9-9023-0B847E260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KEEPING IT DIG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can and email docs rather then fax th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Get a Fax Ser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ceive and send faxes via email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0590-C32C-4BF2-BC69-2DB4E2552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VAMPIRE PERIPHER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your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p to 75% of total energy usage from when they’re off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peakers, printer, monito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nything that has an AC Adapto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lug them into a Power Strip and turn off when done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 a Smart Strip Power Strip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13414" r="0" b="39524"/>
          <a:stretch/>
        </p:blipFill>
        <p:spPr>
          <a:xfrm>
            <a:off x="1057320" y="3468600"/>
            <a:ext cx="6234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01F-DFD5-473E-AF98-369CE8B53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Start Measuring Th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Kill a Watt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est out your peripheral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peakers are a surprising sleeper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easure ‘Vampire’ energy drain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7663" r="0" b="44701"/>
          <a:stretch/>
        </p:blipFill>
        <p:spPr>
          <a:xfrm>
            <a:off x="905040" y="2828880"/>
            <a:ext cx="69055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955D-2C71-4AC4-AF0E-3C4CBD7AA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AUDIT, ACT &amp; MEASURE AG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 existing PC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un tests with the Kill a Watt met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Baseline current energy consumption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Make Chang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able power management in your departm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place power strips with Smart Strip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isable screen saver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place CRT’s with LED Flat panel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Purchase EPEAT equipmen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Set printers and copiers to double-sided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rack printer and copier usage with sustainability softwar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&amp;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1. Sustainable Computing</a:t>
            </a:r>
            <a:br>
              <a:rPr sz="1800"/>
            </a:b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…making IT easy to be gr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many metric tons of CO2 do 20 desktops left on for a year emit into the atmo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1.Less than 1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2. 6.8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990000"/>
                </a:solidFill>
                <a:latin typeface="Arial"/>
              </a:rPr>
              <a:t>3. 68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4. 69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out how many trees would it take to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fset those emission?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1. 3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2. 3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3. 30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4. More than 500,000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7517-B3C3-4AEB-86B2-957CE0FDE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2. What Is Sustainable Comput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0468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Sustainable Computing is a principle that embraces a rang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olicies, procedures, programs, and attitudes that run the length and breadth of any use of information technologies.  It is a holistic approach that stretches from power to waste to purchasing to education and is a life-cycle management approach to the deployment of IT across an organization.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concept of Sustainable Computing considers total cost of ownership, the total environmental impact, and the total benefit of technolog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93C-25C1-4C12-94F4-8DD9FD5DD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18F3-A228-4F4A-B407-5E0F75CB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92480" y="189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G PICTURE: IT &amp; CO2 EMI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56960" y="1200240"/>
            <a:ext cx="808668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dustry Energy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Datacenters use 3% of the total energy used in the office computing is another 1%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DOE/LBNL/Energy Star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T Industry’s CO2 footprint is equivalent to that of the Aviation Industry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Gartner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missions growth from IT is the fastest of any sector, especially in data-intensive disciplines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ffice equipment accounts for 26% of the energy used in office buildings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State of CA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Lighting = 22%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Chilled Water Subsystem = 28%</a:t>
            </a:r>
            <a:endParaRPr b="0" lang="en-US" sz="16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nergy prices expected to rise 6% per year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(DOE)</a:t>
            </a:r>
            <a:endParaRPr b="0" lang="en-US" sz="1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verage PC wastes ½ the energy delivered to it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50 million tons of e-waste produced yearly worldwide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As many as 60% don’t turn computer off at night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S, with 5% world population, uses 30% of world’s paper 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ypical office disposes 350 tones waste paper/employee/year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13. Areas of Focus (Goa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ower = Energy Conserv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Waste = Have a recycling program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urchasing = will purchase only Energy Star or EPEAT registered products - including peripherals as they become avail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Thin Client Pilot = In addition to the business benefits, this system can reduce the overall environmental footprint of a desktop by as much as 75% (Source:  Sun Microsystems: Sustainable Comput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Education = having Poster campaign, periodic ema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reminders, web site, Sustainable Computing Guid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709-00DE-4965-9673-E5AC5588E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ittle things you can do to make a big differenc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the biggest thing is turning off all equipment when you leave for the day – computers, monitors, copiers, printers, fax machin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rint  in Economode when you can – this saves toner by printing lighter o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Print duplex – this saves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• </a:t>
            </a:r>
            <a:r>
              <a:rPr b="0" lang="en-AU" sz="2000" spc="-1" strike="noStrike">
                <a:solidFill>
                  <a:srgbClr val="990000"/>
                </a:solidFill>
                <a:latin typeface="Arial"/>
              </a:rPr>
              <a:t>Buy refurbished ink cartridges and toner whe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7AB-D509-4225-8F43-531D78F8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E4F-4365-49CD-8872-6BCD4BE2F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AT ABC PTY LTD  / or SCHOOL ABC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staff an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0 desktop/laptop comput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 server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of energy use from IT infrastru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uters growing 5%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keep energy usage flat, or reduce, while increasing productive output of I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501920" y="476568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 what can you d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43CE-63F1-46D2-9B37-5871F8EF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BUY WITH SUSTAINABILITY IN MI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only what you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igh-end graphics cards can use as much energy as CPU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Star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stablishes efficiency requirements to ensure energy savings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Product Environmental Assessment Tool (EPEAT) – www.epeat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archable database of computer hardware and set of holistic environmental guidelin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EPA + Hardware venders (Dell, HP, Apple, IBM, etc)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20% of computers shipped in 2007 were EPEAT registered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Up from 10% in 2006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alculate environment benefits and cost savings (VERY IMPORTANT!)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7E91-5DE4-4BCA-B81C-75D1CE26A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553160" y="4933800"/>
            <a:ext cx="159084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17853"/>
          <a:stretch/>
        </p:blipFill>
        <p:spPr>
          <a:xfrm>
            <a:off x="1311120" y="133200"/>
            <a:ext cx="71312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003C-B150-4D61-A13B-3CE5C1A66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553160" y="4933800"/>
            <a:ext cx="1590840" cy="19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0" t="0" r="0" b="14359"/>
          <a:stretch/>
        </p:blipFill>
        <p:spPr>
          <a:xfrm>
            <a:off x="1038240" y="152280"/>
            <a:ext cx="678168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C1C-0614-47B9-897C-48CFC3416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POWER MANAGEMENT … A FEW MY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ing off your computer harm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Cs are built to withstand 40,000 power cycle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Historically, could damage hard disks. Not anymore!!!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more energy to boot a computer than it does to keep it awake over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The small surge of power to turn it on is much smaller then energy used to keep it on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savers sav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more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nergy – 42-114 watt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riginally designed to prevent burn-in, not save energy</a:t>
            </a: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etter to turn the monitor off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’s off uses 0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lugged in it draws ~2-3 watts for network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nnectivity, etc.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7AA3-A6E7-4F1C-BCB8-BE3F7E30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 – COMPARING THE O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133640" y="1454040"/>
            <a:ext cx="76294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744480" y="6381720"/>
            <a:ext cx="72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37BA-6C37-4E9A-955C-5B193723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92480" y="18972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2"/>
          <p:cNvSpPr/>
          <p:nvPr/>
        </p:nvSpPr>
        <p:spPr>
          <a:xfrm rot="16200000">
            <a:off x="-549360" y="8445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ustainabl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 flipH="1">
            <a:off x="74304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4680" y="7560"/>
            <a:ext cx="76294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MANAGEMENT IS AN EASY W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56960" y="1199880"/>
            <a:ext cx="7629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 Management comes with your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PC: Start/Control Panel/Power Options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Mac: Apple Menu/System Preferences/Energy Sav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ly 10% of PC’s have Power Management enabl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EP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Power management can save between $25-$75 in energy costs annually, per computer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Reduces energy used by approx 1/3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2:12:24Z</dcterms:created>
  <dc:creator>Stanford University</dc:creator>
  <dc:description/>
  <dc:language>en-US</dc:language>
  <cp:lastModifiedBy>Raunak</cp:lastModifiedBy>
  <dcterms:modified xsi:type="dcterms:W3CDTF">2012-10-04T08:05:40Z</dcterms:modified>
  <cp:revision>49</cp:revision>
  <dc:subject/>
  <dc:title>Slide 1</dc:title>
</cp:coreProperties>
</file>